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whoosh.wav" ContentType="audio/x-wav"/>
  <Override PartName="/ppt/media/image1.wmf" ContentType="image/x-wmf"/>
  <Override PartName="/ppt/media/image2.png" ContentType="image/png"/>
  <Override PartName="/ppt/media/TADA.WAV" ContentType="audio/x-wav"/>
  <Override PartName="/ppt/media/projctor.wav" ContentType="audio/x-wav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CFF-83C7-4410-BE94-4FD648FB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CCE-0786-48F5-9751-F204863E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4AA-6F66-4E66-817E-DCB7A919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98F-12B8-40CF-B09C-E9DC1BA3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D93F-0643-4714-A468-120C3EDF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A7B7-26F1-46A9-9F13-351DF30E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E63-3ED9-455E-B325-7A4AC331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8036-B3A4-4A6D-A5EA-779BFF88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4FFA-1A6D-43A5-BF10-C0E79DD1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E3A-EAA2-4D07-93DC-B8A9EEC7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9B39-0AA0-45EC-9B3E-E4C1C51F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1F4-5A82-4AEB-97B4-A765A7FD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E65-1A11-4BC1-B974-98F0B5F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D9F4-F9F0-4604-8BB8-197484F3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63D0-F47B-49E4-BA61-100CE635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F50B-F7D6-4ABD-9704-58D06DB3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C96B-70E0-4288-B115-DAB4D4C0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0AA-7156-426E-8AF1-787C099E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A3E-EAA5-4359-8119-681418B8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C0C-0E09-40DF-9393-79655D49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52C-CFB8-4C70-9F26-72C7D2F5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FE8-470E-4BD1-827B-733179E4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575-98F4-4A69-AA76-309FC70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E29-2CBF-4FF1-8FAE-E1642738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5206-661D-44A2-A799-F8EA361D08D0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7697-AC6B-4491-9430-526CB7D1D02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TAD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projctor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projctor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91404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Contractions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Vs.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Possessive Pronouns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6477120" cy="17524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ree Troublesome Pairs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dissolve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(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You’re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or 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Your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) my closest friend.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2438280"/>
            <a:ext cx="65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1828800"/>
            <a:ext cx="6705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ubstitute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You ar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the sentence makes sense, then use the contractio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it doesn’t make sense, then use the possessive pronou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4038480"/>
            <a:ext cx="7623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99"/>
                </a:solidFill>
                <a:uFillTx/>
                <a:latin typeface="Arial Narrow"/>
              </a:rPr>
              <a:t>You are</a:t>
            </a:r>
            <a:r>
              <a:rPr b="1" lang="en-US" sz="3600" spc="-1" strike="noStrike">
                <a:solidFill>
                  <a:srgbClr val="ff3399"/>
                </a:solidFill>
                <a:latin typeface="Arial Narrow"/>
              </a:rPr>
              <a:t> my closest friend.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007572"/>
                </a:solidFill>
                <a:latin typeface="Wingdings"/>
                <a:ea typeface="Wingdings"/>
              </a:rPr>
              <a:t>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entence makes sense, so use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99"/>
                </a:solidFill>
                <a:uFillTx/>
                <a:latin typeface="Arial Narrow"/>
              </a:rPr>
              <a:t>You’re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my closest friend. </a:t>
            </a:r>
            <a:r>
              <a:rPr b="1" lang="en-US" sz="4000" spc="-1" strike="noStrike">
                <a:solidFill>
                  <a:srgbClr val="ff3399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blinds dir="horz"/>
    <p:sndAc>
      <p:stSnd>
        <p:snd r:embed="rId1" name="projctor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(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Who’s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or 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Whose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) bike is in the garage?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2438280"/>
            <a:ext cx="65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1828800"/>
            <a:ext cx="6705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ubstitute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Who i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Who ha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the sentence makes sense, then use the contractio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it doesn’t make sense, then use the possessive pronou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4038480"/>
            <a:ext cx="78487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Arial Narrow"/>
              </a:rPr>
              <a:t>Who is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 bike is in the garage?  </a:t>
            </a: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Arial Narrow"/>
              </a:rPr>
              <a:t>Who has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 bike is in the garage?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007572"/>
                </a:solidFill>
                <a:latin typeface="Wingdings"/>
                <a:ea typeface="Wingdings"/>
              </a:rPr>
              <a:t>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entence makes no sense, so use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99"/>
                </a:solidFill>
                <a:uFillTx/>
                <a:latin typeface="Arial Narrow"/>
              </a:rPr>
              <a:t>Whose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 bike is in the garage?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blinds dir="vert"/>
    <p:sndAc>
      <p:stSnd>
        <p:snd r:embed="rId1" name="projctor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638680" y="2971800"/>
            <a:ext cx="3076560" cy="3240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1143000"/>
            <a:ext cx="4800600" cy="5334120"/>
          </a:xfrm>
          <a:custGeom>
            <a:avLst/>
            <a:gdLst>
              <a:gd name="textAreaLeft" fmla="*/ 1095840 w 4800600"/>
              <a:gd name="textAreaRight" fmla="*/ 3704760 w 4800600"/>
              <a:gd name="textAreaTop" fmla="*/ 1217520 h 5334120"/>
              <a:gd name="textAreaBottom" fmla="*/ 411660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133720"/>
            <a:ext cx="28958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 Narrow"/>
              </a:rPr>
              <a:t>Remember to use this substitution rule, and you’ll ALWAYS make the right choice!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slow">
    <p:dissolve/>
    <p:sndAc>
      <p:stSnd>
        <p:snd r:embed="rId2" name="projctor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99"/>
                </a:solidFill>
                <a:latin typeface="Arial Narrow"/>
              </a:rPr>
              <a:t>Have you ever struggled with choices like these when you write sentences?</a:t>
            </a:r>
            <a:endParaRPr b="0" lang="en-US" sz="3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19360" y="26668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Arial NarrowAHCD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The puppy chased (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) tail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Arial NarrowAHCD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(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) my closest friend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Arial NarrowAHCD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(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) bike is in the garage?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670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2" name="projctor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 Narrow"/>
              </a:rPr>
              <a:t>Well, you are not alone.  Many people confuse these pairs of words all the time: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it’s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and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its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you’re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and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your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who’s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and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7572"/>
                </a:solidFill>
                <a:latin typeface="Arial"/>
              </a:rPr>
              <a:t>whose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r"/>
    <p:sndAc>
      <p:stSnd>
        <p:snd r:embed="rId1" name="projctor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715680"/>
            <a:ext cx="7619760" cy="17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 Narrow"/>
              </a:rPr>
              <a:t>The most obvious difference between the words in each pair is the apostrophe ( </a:t>
            </a:r>
            <a:r>
              <a:rPr b="1" lang="en-US" sz="3800" spc="-1" strike="noStrike">
                <a:solidFill>
                  <a:srgbClr val="ff3399"/>
                </a:solidFill>
                <a:latin typeface="Arial Narrow"/>
              </a:rPr>
              <a:t>‘</a:t>
            </a:r>
            <a:r>
              <a:rPr b="1" lang="en-US" sz="3600" spc="-1" strike="noStrike">
                <a:solidFill>
                  <a:srgbClr val="ff3399"/>
                </a:solidFill>
                <a:latin typeface="Arial Narrow"/>
              </a:rPr>
              <a:t> ) mark: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2604960"/>
            <a:ext cx="3810240" cy="365616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,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, and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 all contain an apostroph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These 3 words are 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contraction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7960" y="2604960"/>
            <a:ext cx="3809880" cy="365616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,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, and </a:t>
            </a:r>
            <a:r>
              <a:rPr b="1" i="1" lang="en-US" sz="28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 do </a:t>
            </a: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NOT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 contain an apostroph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These 3 words are 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possessive pronouns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99"/>
                </a:solidFill>
                <a:latin typeface="Arial Narrow"/>
              </a:rPr>
              <a:t>Contractions join two words into one.  In the process, one or more letters are left out, and an apostrophe replaces these letters.</a:t>
            </a:r>
            <a:endParaRPr b="0" lang="en-US" sz="3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466720"/>
            <a:ext cx="3809880" cy="406692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572"/>
                </a:solidFill>
                <a:uFillTx/>
                <a:latin typeface="Arial Narrow"/>
              </a:rPr>
              <a:t>Two Words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It  i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It  has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You  are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Who  i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Who  has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7960" y="2466720"/>
            <a:ext cx="3809880" cy="406692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572"/>
                </a:solidFill>
                <a:uFillTx/>
                <a:latin typeface="Arial Narrow"/>
              </a:rPr>
              <a:t>Contraction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—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apostrophe replaces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i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is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or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ha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has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time to begin. 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It is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been a long day. 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It has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—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apostrophe replaces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a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are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You’re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bothering me.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You are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—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apostrophe replaces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is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or the </a:t>
            </a:r>
            <a:r>
              <a:rPr b="1" lang="en-US" sz="2000" spc="-1" strike="noStrike" u="sng">
                <a:solidFill>
                  <a:srgbClr val="007572"/>
                </a:solidFill>
                <a:uFillTx/>
                <a:latin typeface="Arial Narrow"/>
              </a:rPr>
              <a:t>ha</a:t>
            </a: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 in </a:t>
            </a:r>
            <a:r>
              <a:rPr b="0" i="1" lang="en-US" sz="2000" spc="-1" strike="noStrike">
                <a:solidFill>
                  <a:srgbClr val="007572"/>
                </a:solidFill>
                <a:latin typeface="Arial Narrow"/>
              </a:rPr>
              <a:t>has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ready to begin?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Who is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5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572"/>
                </a:solidFill>
                <a:latin typeface="Arial Narrow"/>
              </a:rPr>
              <a:t>Who’s</a:t>
            </a:r>
            <a:r>
              <a:rPr b="0" lang="en-US" sz="1800" spc="-1" strike="noStrike">
                <a:solidFill>
                  <a:srgbClr val="007572"/>
                </a:solidFill>
                <a:latin typeface="Arial Narrow"/>
              </a:rPr>
              <a:t> seen my keys? </a:t>
            </a:r>
            <a:r>
              <a:rPr b="1" lang="en-US" sz="1400" spc="-1" strike="noStrike">
                <a:solidFill>
                  <a:srgbClr val="007572"/>
                </a:solidFill>
                <a:latin typeface="Arial Narrow"/>
              </a:rPr>
              <a:t>(Who has)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d"/>
    <p:sndAc>
      <p:stSnd>
        <p:snd r:embed="rId10" name="projctor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6720" y="839520"/>
            <a:ext cx="762012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99"/>
                </a:solidFill>
                <a:latin typeface="Arial Narrow"/>
              </a:rPr>
              <a:t>Possessive pronouns are pronouns that show ownership or possession.  They DO  NOT need an apostrophe to show ownership, unlike nouns, which DO need an apostrophe to show ownership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Possessive Pronoun---</a:t>
            </a:r>
            <a:r>
              <a:rPr b="1" lang="en-US" sz="2900" spc="-1" strike="noStrike" u="sng">
                <a:solidFill>
                  <a:srgbClr val="007572"/>
                </a:solidFill>
                <a:uFillTx/>
                <a:latin typeface="Arial Narrow"/>
              </a:rPr>
              <a:t>His</a:t>
            </a: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car (pronoun with </a:t>
            </a:r>
            <a:r>
              <a:rPr b="1" lang="en-US" sz="2900" spc="-1" strike="noStrike" u="sng">
                <a:solidFill>
                  <a:srgbClr val="007572"/>
                </a:solidFill>
                <a:uFillTx/>
                <a:latin typeface="Arial Narrow"/>
              </a:rPr>
              <a:t>no</a:t>
            </a: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‘s)</a:t>
            </a:r>
            <a:br>
              <a:rPr sz="2900"/>
            </a:b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</a:t>
            </a:r>
            <a:br>
              <a:rPr sz="2900"/>
            </a:b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Possessive Noun---</a:t>
            </a:r>
            <a:r>
              <a:rPr b="1" lang="en-US" sz="2900" spc="-1" strike="noStrike" u="sng">
                <a:solidFill>
                  <a:srgbClr val="007572"/>
                </a:solidFill>
                <a:uFillTx/>
                <a:latin typeface="Arial Narrow"/>
              </a:rPr>
              <a:t>Bob’s</a:t>
            </a: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car  (noun </a:t>
            </a:r>
            <a:r>
              <a:rPr b="1" lang="en-US" sz="2900" spc="-1" strike="noStrike" u="sng">
                <a:solidFill>
                  <a:srgbClr val="007572"/>
                </a:solidFill>
                <a:uFillTx/>
                <a:latin typeface="Arial Narrow"/>
              </a:rPr>
              <a:t>with</a:t>
            </a:r>
            <a:r>
              <a:rPr b="1" lang="en-US" sz="2900" spc="-1" strike="noStrike">
                <a:solidFill>
                  <a:srgbClr val="007572"/>
                </a:solidFill>
                <a:latin typeface="Arial Narrow"/>
              </a:rPr>
              <a:t> an ‘s)</a:t>
            </a:r>
            <a:br>
              <a:rPr sz="2900"/>
            </a:br>
            <a:br>
              <a:rPr sz="2800"/>
            </a:br>
            <a:endParaRPr b="0" lang="en-US" sz="29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p:transition spd="med">
    <p:pull dir="ld"/>
    <p:sndAc>
      <p:stSnd>
        <p:snd r:embed="rId1" name="projctor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656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67960" y="1143000"/>
            <a:ext cx="3809880" cy="495288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 Narrow"/>
              </a:rPr>
              <a:t>Possessive Pronou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—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no apostroph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The kitten could not find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squeak toy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---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no apostroph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I like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your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 taste in clothes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 Narrow"/>
              </a:rPr>
              <a:t>Whose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---</a:t>
            </a:r>
            <a:r>
              <a:rPr b="0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no apostroph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We don’t know </a:t>
            </a:r>
            <a:r>
              <a:rPr b="1" lang="en-US" sz="2400" spc="-1" strike="noStrike">
                <a:solidFill>
                  <a:srgbClr val="007572"/>
                </a:solidFill>
                <a:latin typeface="Arial Narrow"/>
              </a:rPr>
              <a:t>whose </a:t>
            </a: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car is parked in the fire lane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79720" y="1143000"/>
            <a:ext cx="3809880" cy="4952880"/>
          </a:xfrm>
          <a:prstGeom prst="rect">
            <a:avLst/>
          </a:prstGeom>
          <a:noFill/>
          <a:ln w="19080">
            <a:solidFill>
              <a:srgbClr val="0075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 Narrow"/>
              </a:rPr>
              <a:t>Meaning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Belonging to </a:t>
            </a:r>
            <a:r>
              <a:rPr b="1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it</a:t>
            </a: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Belonging to </a:t>
            </a:r>
            <a:r>
              <a:rPr b="1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you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Arial Narrow"/>
              </a:rPr>
              <a:t>Belonging to </a:t>
            </a:r>
            <a:r>
              <a:rPr b="1" lang="en-US" sz="2800" spc="-1" strike="noStrike" u="sng">
                <a:solidFill>
                  <a:srgbClr val="007572"/>
                </a:solidFill>
                <a:uFillTx/>
                <a:latin typeface="Arial Narrow"/>
              </a:rPr>
              <a:t>whom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lu"/>
    <p:sndAc>
      <p:stSnd>
        <p:snd r:embed="rId10" name="projctor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44953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99"/>
                </a:solidFill>
                <a:latin typeface="Arial Narrow"/>
              </a:rPr>
              <a:t>There is an easy substitution test </a:t>
            </a:r>
            <a:br>
              <a:rPr sz="4200"/>
            </a:br>
            <a:r>
              <a:rPr b="1" lang="en-US" sz="4200" spc="-1" strike="noStrike">
                <a:solidFill>
                  <a:srgbClr val="ff3399"/>
                </a:solidFill>
                <a:latin typeface="Arial Narrow"/>
              </a:rPr>
              <a:t>you can use in order to choose the correct word in the following troublesome pairs.</a:t>
            </a:r>
            <a:endParaRPr b="0" lang="en-US" sz="42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29368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2" name="projctor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The puppy chased (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it’s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or </a:t>
            </a:r>
            <a:r>
              <a:rPr b="1" i="1" lang="en-US" sz="4000" spc="-1" strike="noStrike">
                <a:solidFill>
                  <a:srgbClr val="ff3399"/>
                </a:solidFill>
                <a:latin typeface="Arial Narrow"/>
              </a:rPr>
              <a:t>its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) tail.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2438280"/>
            <a:ext cx="65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1828800"/>
            <a:ext cx="6705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ubstitute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it i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 or </a:t>
            </a:r>
            <a:r>
              <a:rPr b="1" lang="en-US" sz="3000" spc="-1" strike="noStrike" u="sng">
                <a:solidFill>
                  <a:srgbClr val="007572"/>
                </a:solidFill>
                <a:uFillTx/>
                <a:latin typeface="Arial Narrow"/>
              </a:rPr>
              <a:t>it ha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the sentence makes sense, then use the contractio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it’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  If it doesn’t make sense, then use the possessive pronoun,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>
            <a:off x="839880" y="4038480"/>
            <a:ext cx="8153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Narrow"/>
              </a:rPr>
              <a:t>The puppy chased </a:t>
            </a: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 Narrow"/>
              </a:rPr>
              <a:t>it is</a:t>
            </a:r>
            <a:r>
              <a:rPr b="1" lang="en-US" sz="2800" spc="-1" strike="noStrike">
                <a:solidFill>
                  <a:srgbClr val="ff3399"/>
                </a:solidFill>
                <a:latin typeface="Arial Narrow"/>
              </a:rPr>
              <a:t> tail.  The puppy chased </a:t>
            </a: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 Narrow"/>
              </a:rPr>
              <a:t>it has</a:t>
            </a:r>
            <a:r>
              <a:rPr b="1" lang="en-US" sz="2800" spc="-1" strike="noStrike">
                <a:solidFill>
                  <a:srgbClr val="ff3399"/>
                </a:solidFill>
                <a:latin typeface="Arial Narrow"/>
              </a:rPr>
              <a:t> tail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007572"/>
                </a:solidFill>
                <a:latin typeface="Wingdings"/>
                <a:ea typeface="Wingdings"/>
              </a:rPr>
              <a:t>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Sentence makes no sense, so use </a:t>
            </a:r>
            <a:r>
              <a:rPr b="1" i="1" lang="en-US" sz="3000" spc="-1" strike="noStrike">
                <a:solidFill>
                  <a:srgbClr val="007572"/>
                </a:solidFill>
                <a:latin typeface="Arial Narrow"/>
              </a:rPr>
              <a:t>its</a:t>
            </a:r>
            <a:r>
              <a:rPr b="0" lang="en-US" sz="30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The puppy chased </a:t>
            </a:r>
            <a:r>
              <a:rPr b="1" i="1" lang="en-US" sz="4000" spc="-1" strike="noStrike" u="sng">
                <a:solidFill>
                  <a:srgbClr val="ff3399"/>
                </a:solidFill>
                <a:uFillTx/>
                <a:latin typeface="Arial Narrow"/>
              </a:rPr>
              <a:t>its</a:t>
            </a:r>
            <a:r>
              <a:rPr b="1" lang="en-US" sz="4000" spc="-1" strike="noStrike">
                <a:solidFill>
                  <a:srgbClr val="ff3399"/>
                </a:solidFill>
                <a:latin typeface="Arial Narrow"/>
              </a:rPr>
              <a:t> tail. </a:t>
            </a:r>
            <a:r>
              <a:rPr b="1" lang="en-US" sz="4000" spc="-1" strike="noStrike">
                <a:solidFill>
                  <a:srgbClr val="ff3399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med">
    <p:pull dir="ru"/>
    <p:sndAc>
      <p:stSnd>
        <p:snd r:embed="rId1" name="projctor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0:30:16Z</dcterms:created>
  <dc:creator>Melanie A. Suman</dc:creator>
  <dc:description/>
  <dc:language>en-US</dc:language>
  <cp:lastModifiedBy>dyera</cp:lastModifiedBy>
  <dcterms:modified xsi:type="dcterms:W3CDTF">2007-05-01T13:15:30Z</dcterms:modified>
  <cp:revision>43</cp:revision>
  <dc:subject/>
  <dc:title>Contractions Vs.  Possessive Pronouns:</dc:title>
</cp:coreProperties>
</file>